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D71E-502F-4E86-ACB3-E7AADB0C9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E879-0444-40E7-9071-08F2138E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E34B1-D74F-4411-BA6F-AD3BB897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40753-A222-4791-B137-C2653C25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CE68B-C039-4F64-8258-A3AD39BD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11A18-5696-43DB-B0DB-445FA8A8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8CE88-9DF7-4FFD-B454-7054E458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AC031-80CC-4B1B-A802-C00344FF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C3644-F3E4-4786-A4C4-35FDF0D9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B94702-A34B-489D-8200-EE2946E57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73887-6F54-41CC-9292-FD76B3AF9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E20988-E545-4DDB-90F3-95D52BE6C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03AF-3154-47CB-8D0E-6046D5358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17FF38-60D6-4CD8-9B00-3E0BE6DB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8F819F-9F99-4B2F-8BB2-4BCDCD7D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075AC-7245-477B-9E49-631AA1DD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0AC95C-4F2C-4A5C-A918-DBC29FA3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39BCBC-B150-4F2D-9304-B8AB0C30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F35B5-7E96-4538-90AF-ECBA5AAA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4DFF8-DBB6-4ABB-A399-8D631CB1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B9C46-BEAA-461C-8955-E48DFC2E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806908-C9D5-464C-BA14-6A038A10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645078-3029-4E53-83BF-F98D9F334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CF4E-5B9C-42AD-A41C-BEB88EEF1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767988-6059-4681-9EED-CC3E36F2B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719C2-0C33-4EF4-8350-F36739444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95178-A501-41D6-9990-2B3B5BFC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5036A-12DD-4FE5-9310-8997A611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921C5-3FF3-4F88-8FD0-F6B99F56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06C46-9565-4C4E-A12A-DC315882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6EA38-C158-45FE-A4E1-EC8E418E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7671D-779B-413F-963F-1E0A5A35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6F5B2-6B89-4780-8C81-1CAFC57A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7BC1E-9DE4-4830-8C42-DFB7FDDC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C9EB-D0F6-430B-AE3A-B4F32F7E8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ABAD6-E5D7-42C5-92E8-A101EEFB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B011B-316B-47FE-9996-A0EE0465D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36A1C-1BF1-45D6-A9BD-A1AA0A76D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BA722E-B9C6-4D2F-9F60-6F2E8F977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01F328-A5F1-426B-B838-4E3BAC35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FD6C8-6F66-47C3-B7F1-ACCED929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8C2CA5-0472-4757-BF2D-E6262439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D0C2EF-56D5-489E-9793-B920F229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F3E3C-C31D-48CB-9AEE-11E67594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9E31FE-FCC5-4815-9610-FE154562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37A3-7DBC-4816-AB00-F9CDF38A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5F4210-E029-4E24-8932-9AC0288C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A48856-FDD2-4ECD-AD44-D38E191B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65C2C2-10D0-40C5-83D2-89068F01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C29B15-8FC5-487E-93CD-95B0C5B8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2A3454-FA8D-4710-A694-B1C888F8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B74DDB-579B-4122-936F-71C414C30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6E0ABB-33E3-40C9-9382-14193C14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C6EC6D-3F99-46AF-A9AF-B35C3825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AF3806-FD89-4049-ABB4-C91ADE77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9A5186-FA86-4484-A855-F0ED9499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52A4-BA38-4C40-99C7-0B6E4378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012773-46B5-47F9-8338-5B3CD0F5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4DAAAC-2BBA-4B21-9C3B-41F28935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93D1F8-610C-4A42-A20D-E6C2EEB5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4FDAEC-29A0-40DC-9224-EE3D720A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5F7DE9-4E3E-4552-BEA2-8F7F1144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9D1CEE-623E-431C-BA52-132A450FA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C7BD1D-8696-4458-A52C-439C38FD4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93BB5E-6D77-4709-9DF2-496FAC0AE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A446A4-E20C-4CD7-B66F-A90CF1CF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8D1F82-9F87-4949-82E9-D77E8862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193B-BA83-4795-9BFF-15A6420D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6B62BF-7F79-4A52-B14F-80FD851D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765970-28B8-4051-9430-75BAB2DF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D00654-B5B4-4CF7-B21D-D34C86B1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7BB394-A06D-4666-94EF-2CBEF676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B5596C-FE4E-4F21-A450-D93BB3CD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54D46C-8E9D-4869-8519-85CD9EF4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663B25-8E55-474D-AE53-C37279FA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9D09E6-5688-4FD0-9E3E-0A73E4AB0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BA51BF-5CEB-420A-935A-B26448FA5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81E8A6-1652-4455-B596-09C4EE59E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97F0-66AB-4E0B-A447-AB56B693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8DF998-1705-421B-B29F-F90CD4BD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6380A1-10A8-417D-8AE1-9AC08646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1ED38F-26A8-4A26-994B-F2E96630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281B3F-2B82-4616-9D4B-8302C755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67082E-5D86-4E14-8630-2564009C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A275FF-A612-45F4-B1F7-E29C7441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7B748D-147B-4B36-859B-32DAFB06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FDB75E-0291-4318-BDAA-A10FDBAA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6EA36A-E34A-4D9F-BFB8-411D3C82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1D76D7-5A6B-462D-9AF0-52CF5D692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A6AB-9CE0-4C6C-8349-14A8C3C1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B87C0A-833B-445C-88C7-06F5DEEA2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C9B2C6-FE9F-4F7B-B60C-2ABD50B83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448440-3F02-4D2D-BF05-3F42F131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764617-AE91-4EB4-8105-7C8954B0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3F31BB-2F79-4934-AB27-3544ABB5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11EA50-2DBB-4243-9338-39290CA8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D0CBD1-018B-4573-89AB-7376EEBB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B55DE6-F4F8-4F4E-AF27-8282DF99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14A181-723F-4B32-B1A4-E5E053DA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0890DF-D74B-48C9-9CEC-E7278F26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B235-53C8-4FC0-A3D5-022D83F3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E66489-8115-4E43-9642-E8316B3A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218FB1-56F3-4D9F-AAC3-12A17C41E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CAE489-4531-40B3-ADEF-8161CEF4C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BA991C-D3DA-47AA-8700-DEF134544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81D10A-380C-4108-84A7-D72DC76E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26634C-905A-469B-8F93-8AA44390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C18092-79C4-402E-B494-60A469F9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4C5A64-CF17-4371-B42F-A77E2246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C852E4-3E71-44B3-851A-19489632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AA3454-E7BE-42C7-A3A9-253F73C6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0055-F233-4710-907E-88FAEE1A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3F50-171E-442C-BF7E-996C15EF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B01D90-BDB6-4C74-AB11-0B113AA0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8F8F54-E5C3-48EF-B421-76164B83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58FE0B-6B90-4942-A6C7-802083C8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7A0A2A-64BC-48CB-A12F-DDA81B253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3A60A2-E55D-449D-8353-F93F24C7C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DE8F03-5559-445F-962E-9FFF8F3C0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98BD13-1464-44A8-A77D-51593EEF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62719C-0388-413B-834E-4741F9A6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CF2BF7-DB2B-4630-9509-96F1BF1E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84977F-49BE-4AA1-A322-005C90AF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51A3-43A7-4125-ADC2-E5EAB434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149FD9-DDCF-4A7C-9DFF-6A0F5B76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B8BC2A-68F1-46D4-9A1D-680BA493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78E259-B151-40E4-8945-95286576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4B59DD-CB27-4B44-BACA-6FF25A22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531EEA-F13E-4217-B27F-5C3424F7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503625-7D5C-4C69-80E6-A639E252F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DDC97F-CCC7-4B3E-B4C3-61C922681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401DBC-3AC1-44BA-AE1E-A1C03BE1B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BD07FA-306D-4DE6-BB41-BB5CEEE4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57C2DA-8A39-4CCE-B2EA-E3F14373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4136-4A98-48D4-A40F-CF7D66F8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94FD1D-559F-4E15-B3BE-9853D4EA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B6CFAF-EB8A-478E-8D62-FE1B1831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D04917-CE5E-4122-B3F8-5BECB2AC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E8003F-27BA-45AA-BD40-BBBE0578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A66661-8C4A-47B9-9EF0-AE41F2DE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4B2392-8784-41C6-B4B0-5FFB43CC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F4D0EA-9FDD-4D43-BC19-0D6BF25B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A8155F-BEC5-42CC-81E8-5C51F5E7D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5666B5-6A2A-451F-BC2D-FAFEEE354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98F11E-DC22-4634-A76E-8A90D3811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9EEF-9902-4C1B-A707-44BD171C6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B8767F-EB77-4241-891A-3A2DAC1C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D968B0-ACA1-4FC9-B957-CB33FABA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247B7F-88F8-47AE-A211-86D2D078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B48BEA-9869-421F-BF7E-B67E5982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362D39-54FE-436E-9C70-03A8B3B7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FCB651-60C0-4B45-AACB-69A58352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FD340D-7646-48F6-8AB6-A68E2E49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015FB7-186A-458E-A61C-845A40B8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748AD0-6C36-4325-B4CD-93995D6E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5C1C65-438A-47E0-80DC-B12A00488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F1D3-1BB1-4B50-A8E7-4557862C6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102600-D61B-4C1B-A772-5C46EFB90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E431AB-FD60-4C30-8D90-3791A85D3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46815E-0A06-4B16-A773-F1BDF63C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D3A7D9-6209-47DC-B707-B95E3279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7643F8-3FCD-4BD5-8BFD-D49DD6AA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7DB895-EAB4-46D5-A641-1DA59A5F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42FCEF-8342-48DB-B36A-8BB82507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F52665-218D-4AE8-8B1A-C502D691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6BE6DB-4700-4DDA-A6F1-D6756515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5238F7-6921-4AA5-8369-86678319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3DB4C-DD0D-4810-9907-4FD0892D6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E8076D-EA42-48CC-9CC1-6B6F3D8B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301D80-650B-43B9-9A69-2122DC2F1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514C12-93F8-48D3-B45E-CA933783F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A195A-4D13-4BB6-8240-43DC0B2F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78F54-E2FC-4556-8210-A7E3A56F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9F562-2873-4807-B6BB-6B3A2AEF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01D84-FF4F-4713-90CB-1291E980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609D-8DEC-4878-8E51-A55458DF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558EB-CD1D-4FC0-AB25-1B402AA6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89501-DE3D-40BE-AD4B-A10865FD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956FA-6A52-46D4-B4FB-2D48B3C9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85EA9-C834-4939-87CD-5ED5A7C5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49528-F94A-49B8-BAA1-0E5232EF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9E749-7243-47B7-B2EF-9E1D23901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F546C-BDF0-4B04-9557-25D6D629F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7CE2E-9252-4946-9937-F7D86F060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B783B-9605-4BBF-A484-12AF9C04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53BE7-DC79-492E-806A-1C2C1CFA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89A6-34FC-49A7-BFEB-C1504709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F9C5B-18E1-49B0-B8EF-8504AB14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AFAC1-D523-4AAD-AB8B-1DC07181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FE45D-068E-417C-9C7E-B0C5557F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CD355-EBE7-4B6D-96DE-F374F16C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C0114-595B-4F0E-83E8-B887579F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618EB-153F-4966-9180-DC84BF72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74CB4-ED98-49BB-ADAE-187AD7FD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4306F-EB95-4DDE-8864-EC6758234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0DD0B-0E4A-4779-872A-2BE71416A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94903-7E0D-4C2E-88CB-F5E48060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C9B4-42DE-4426-89F2-1A1D38AF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6907C-5D5F-445D-8F5D-AF8FAFB1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B81E9-3F31-4FC6-AA08-FDB36B29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29B64-C43D-4B11-AED5-3E68D35C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4BDF7-77A1-4585-BE54-CA69D241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382DB-C0D3-4916-9B2D-6899E7AF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6CF77-826D-4AFD-9180-8F203955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2506C-29EE-40E3-BC0C-79509CE0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688FC-48F6-4743-9C3A-40F9F956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2BD73-D463-43A5-8817-BED19CA4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E5692-B4AC-4CC6-BB0B-AEA61D225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7AE3-037D-4300-9D38-D606DEC7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584A2-1347-4B4F-9EA8-FC41D9B9D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01AD7-E527-4140-916A-E37659E7F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19727-85B4-4A24-BFFC-A1BF01D6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CCA1C-2A8C-46C4-B1DE-121BEE61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0DDA8-26F2-4831-8A2C-2A35E647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48E48-468D-458B-8AA7-B2EEA1B2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37159-95A3-4016-977B-A9E8B977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65C51-08D2-4C15-B28F-B5388A29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876EB-FC0A-4D9C-AB59-61CBF456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1437D-DAF3-4F8A-B0F3-60C78A62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AE53-0A63-410D-9FA7-A08297FF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98737-4298-4CA3-B87A-ACA72C11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ED104-29D3-492F-B07C-22E610D36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C30C0-2F8D-463A-AD13-F688D58B9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F7569-C1DC-41BA-9FA2-5B642E8E0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8470E-6107-4C01-B8AF-268C0A7C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DB70E-94F1-493B-BC60-0741BC29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3347F-C107-4717-81C9-F628D500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D498A-DE65-4B76-B613-2362D84B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0FF95-2F90-4396-8F5C-2C1926FC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BE648-2368-40FC-8029-1B8EE719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CAFD-85D1-464A-80CF-A386D9C9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FAEA6-AAC0-4DFB-8707-8CB162AD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34537-2CA3-4168-8DC0-BD4F6114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66A5C-1202-45C5-8937-4F03C64B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46779-CDE0-45D2-9364-3B69F7541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74183-D9C7-488C-AAF1-E44AD80BD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7B559-93F2-4292-916C-0CC544680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99F19-9710-4A08-95C6-DF56315C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4DDD8-EE50-4292-BEFE-8A0206F7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04B57-BC5E-4021-B902-6EE5A7EA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B7A2F-833C-4B94-9FC8-4F5692BE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2B18-AE9E-457D-BFA7-22D1419C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FE568-0BB2-451C-90BF-D0FE1F6C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5D197-AED0-40A2-856C-D008777D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62E83-FADE-4A90-8A2C-FC6F2A08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75342-7A9C-4545-8286-25DC3F05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F8368-6B63-4167-964C-9F5F060A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6B7AF-8A16-4147-8864-294710ED2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131CB-61FB-4AC7-A51F-B06673DDE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E5C81-7E46-441A-9BEE-9915418D3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80311-D56E-4B76-AEBA-68565D37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15385-9198-47BC-9A2E-1624F33A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8A4B-7B49-4604-89DC-5FFC73111C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D3F7-4289-428A-8B02-BA19601A08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2ECD-F01E-4A03-884B-F1C9C65ECA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2956-8104-4C01-BC58-E0F5EE3219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A45F-F3F5-47F7-BD41-0A7AC1F057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4CF7-8313-40C5-890B-ACCF1C88D5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482E-8509-4432-B6F7-6A74F7F0B9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AF06-E8C9-4F91-BD21-65AB4F6588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5B32-8BBF-41E6-AD00-A04EF3CB1C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5ECF-BB19-4E7B-91A2-6B2EC2D8B3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D856-5FAD-4A38-AB0F-F7BE6B29BA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6A64-5FFE-4FF4-9DAD-E115B79C0C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CF90-8F59-49F0-81D0-7FC33DAE24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93E2-6D5A-4F66-91BC-2009C13FB3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BF09-3EA8-48F7-B7D3-53E04F00B4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4680-394D-46FF-BEBF-2EC98617A7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4E1C-7AD8-453D-81AF-F52776AB0A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E0CC-E52B-4F47-8AB5-83381A4D86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C8D4-6B39-49C3-9C46-2D52A58624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3326-D18E-473E-9FB4-3A2812DB44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CB2A-8E21-4DB3-9585-F77E4F80D7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35D7-3E57-42A1-A9D6-8F86C02B6C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D1D3-55F1-4B53-BA7C-DCBA03D6B6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47F3-13C3-4D2E-BC1E-0EE5F7D9D7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AC88-7758-4513-A704-BBC6DB90C4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21B7-FD88-4848-B4EB-ECE6948891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BA6C-5C69-4DCC-A552-8CFA11F84A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C410-4C43-47D9-90BA-73B983D35B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0C8A-075A-4E49-BD21-2CF855FB8A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011D-90B4-456E-804C-D86249A990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F1B4-F346-4DDB-BC2E-6849B301BE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5DE8-6146-499F-BB73-7DE6E055C0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8A5E-1B6D-4206-87E5-0C0F982C4B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BFB9-8AD0-4CF8-A7DA-7B03FB2217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28E8-F247-49DF-85AE-C8FDF5DA6B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62E6-AB85-40FE-8FF9-0CF0234577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39E1-385F-4261-9F37-E17FE482D5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EB70-4440-411B-9A0A-257B72FB70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9944-1187-466F-B35E-27DD788E71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903F-D58C-4DF8-B880-4E62257EDC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1.png"/><Relationship Id="rId24" Type="http://schemas.openxmlformats.org/officeDocument/2006/relationships/image" Target="../media/image12.png"/><Relationship Id="rId25" Type="http://schemas.openxmlformats.org/officeDocument/2006/relationships/image" Target="../media/image11.png"/><Relationship Id="rId26" Type="http://schemas.openxmlformats.org/officeDocument/2006/relationships/image" Target="../media/image12.png"/><Relationship Id="rId27" Type="http://schemas.openxmlformats.org/officeDocument/2006/relationships/image" Target="../media/image11.png"/><Relationship Id="rId28" Type="http://schemas.openxmlformats.org/officeDocument/2006/relationships/image" Target="../media/image12.png"/><Relationship Id="rId29" Type="http://schemas.openxmlformats.org/officeDocument/2006/relationships/image" Target="../media/image11.png"/><Relationship Id="rId30" Type="http://schemas.openxmlformats.org/officeDocument/2006/relationships/image" Target="../media/image12.png"/><Relationship Id="rId31" Type="http://schemas.openxmlformats.org/officeDocument/2006/relationships/image" Target="../media/image11.png"/><Relationship Id="rId32" Type="http://schemas.openxmlformats.org/officeDocument/2006/relationships/image" Target="../media/image12.png"/><Relationship Id="rId33" Type="http://schemas.openxmlformats.org/officeDocument/2006/relationships/image" Target="../media/image11.png"/><Relationship Id="rId34" Type="http://schemas.openxmlformats.org/officeDocument/2006/relationships/image" Target="../media/image12.png"/><Relationship Id="rId3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2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10.png"/><Relationship Id="rId18" Type="http://schemas.openxmlformats.org/officeDocument/2006/relationships/image" Target="../media/image12.png"/><Relationship Id="rId19" Type="http://schemas.openxmlformats.org/officeDocument/2006/relationships/image" Target="../media/image11.png"/><Relationship Id="rId20" Type="http://schemas.openxmlformats.org/officeDocument/2006/relationships/image" Target="../media/image12.png"/><Relationship Id="rId21" Type="http://schemas.openxmlformats.org/officeDocument/2006/relationships/image" Target="../media/image10.png"/><Relationship Id="rId2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5.png"/><Relationship Id="rId7" Type="http://schemas.openxmlformats.org/officeDocument/2006/relationships/image" Target="../media/image10.png"/><Relationship Id="rId8" Type="http://schemas.openxmlformats.org/officeDocument/2006/relationships/image" Target="../media/image15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295360" y="3166920"/>
            <a:ext cx="455328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23840" y="858960"/>
            <a:ext cx="8896320" cy="58100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495440" y="145080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1476360" y="182556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2978280" y="18446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1476360" y="22050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1476360" y="257508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1476360" y="29527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1471680" y="334800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2978280" y="221472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2968560" y="257508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2987640" y="293364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2987640" y="33480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4356000" y="22050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4365720" y="256536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4375080" y="293364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4375080" y="33228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7"/>
          <a:stretch/>
        </p:blipFill>
        <p:spPr>
          <a:xfrm>
            <a:off x="5753160" y="256536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8"/>
          <a:stretch/>
        </p:blipFill>
        <p:spPr>
          <a:xfrm>
            <a:off x="5767560" y="294336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9"/>
          <a:stretch/>
        </p:blipFill>
        <p:spPr>
          <a:xfrm>
            <a:off x="5757840" y="33228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0"/>
          <a:stretch/>
        </p:blipFill>
        <p:spPr>
          <a:xfrm>
            <a:off x="7145280" y="29527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1"/>
          <a:stretch/>
        </p:blipFill>
        <p:spPr>
          <a:xfrm>
            <a:off x="7155000" y="331308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2"/>
          <a:stretch/>
        </p:blipFill>
        <p:spPr>
          <a:xfrm>
            <a:off x="8532720" y="33386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44" name="图片 60451" descr=""/>
          <p:cNvPicPr/>
          <p:nvPr/>
        </p:nvPicPr>
        <p:blipFill>
          <a:blip r:embed="rId23"/>
          <a:stretch/>
        </p:blipFill>
        <p:spPr>
          <a:xfrm>
            <a:off x="620640" y="4681440"/>
            <a:ext cx="1629000" cy="381240"/>
          </a:xfrm>
          <a:prstGeom prst="rect">
            <a:avLst/>
          </a:prstGeom>
          <a:ln w="0">
            <a:noFill/>
          </a:ln>
        </p:spPr>
      </p:pic>
      <p:pic>
        <p:nvPicPr>
          <p:cNvPr id="945" name="图片 60452" descr=""/>
          <p:cNvPicPr/>
          <p:nvPr/>
        </p:nvPicPr>
        <p:blipFill>
          <a:blip r:embed="rId24"/>
          <a:stretch/>
        </p:blipFill>
        <p:spPr>
          <a:xfrm>
            <a:off x="601560" y="5699160"/>
            <a:ext cx="1622520" cy="409680"/>
          </a:xfrm>
          <a:prstGeom prst="rect">
            <a:avLst/>
          </a:prstGeom>
          <a:ln w="0">
            <a:noFill/>
          </a:ln>
        </p:spPr>
      </p:pic>
      <p:pic>
        <p:nvPicPr>
          <p:cNvPr id="946" name="图片 60453" descr=""/>
          <p:cNvPicPr/>
          <p:nvPr/>
        </p:nvPicPr>
        <p:blipFill>
          <a:blip r:embed="rId25"/>
          <a:stretch/>
        </p:blipFill>
        <p:spPr>
          <a:xfrm>
            <a:off x="611280" y="5208480"/>
            <a:ext cx="1628640" cy="381240"/>
          </a:xfrm>
          <a:prstGeom prst="rect">
            <a:avLst/>
          </a:prstGeom>
          <a:ln w="0">
            <a:noFill/>
          </a:ln>
        </p:spPr>
      </p:pic>
      <p:pic>
        <p:nvPicPr>
          <p:cNvPr id="947" name="图片 60454" descr=""/>
          <p:cNvPicPr/>
          <p:nvPr/>
        </p:nvPicPr>
        <p:blipFill>
          <a:blip r:embed="rId26"/>
          <a:stretch/>
        </p:blipFill>
        <p:spPr>
          <a:xfrm>
            <a:off x="601560" y="6211800"/>
            <a:ext cx="1622520" cy="409680"/>
          </a:xfrm>
          <a:prstGeom prst="rect">
            <a:avLst/>
          </a:prstGeom>
          <a:ln w="0">
            <a:noFill/>
          </a:ln>
        </p:spPr>
      </p:pic>
      <p:pic>
        <p:nvPicPr>
          <p:cNvPr id="948" name="图片 60455" descr=""/>
          <p:cNvPicPr/>
          <p:nvPr/>
        </p:nvPicPr>
        <p:blipFill>
          <a:blip r:embed="rId27"/>
          <a:stretch/>
        </p:blipFill>
        <p:spPr>
          <a:xfrm>
            <a:off x="3232080" y="4683240"/>
            <a:ext cx="1629000" cy="380880"/>
          </a:xfrm>
          <a:prstGeom prst="rect">
            <a:avLst/>
          </a:prstGeom>
          <a:ln w="0">
            <a:noFill/>
          </a:ln>
        </p:spPr>
      </p:pic>
      <p:pic>
        <p:nvPicPr>
          <p:cNvPr id="949" name="图片 60456" descr=""/>
          <p:cNvPicPr/>
          <p:nvPr/>
        </p:nvPicPr>
        <p:blipFill>
          <a:blip r:embed="rId28"/>
          <a:stretch/>
        </p:blipFill>
        <p:spPr>
          <a:xfrm>
            <a:off x="3213000" y="5700600"/>
            <a:ext cx="1622520" cy="409680"/>
          </a:xfrm>
          <a:prstGeom prst="rect">
            <a:avLst/>
          </a:prstGeom>
          <a:ln w="0">
            <a:noFill/>
          </a:ln>
        </p:spPr>
      </p:pic>
      <p:pic>
        <p:nvPicPr>
          <p:cNvPr id="950" name="图片 60457" descr=""/>
          <p:cNvPicPr/>
          <p:nvPr/>
        </p:nvPicPr>
        <p:blipFill>
          <a:blip r:embed="rId29"/>
          <a:stretch/>
        </p:blipFill>
        <p:spPr>
          <a:xfrm>
            <a:off x="3222720" y="5210280"/>
            <a:ext cx="1628640" cy="380880"/>
          </a:xfrm>
          <a:prstGeom prst="rect">
            <a:avLst/>
          </a:prstGeom>
          <a:ln w="0">
            <a:noFill/>
          </a:ln>
        </p:spPr>
      </p:pic>
      <p:pic>
        <p:nvPicPr>
          <p:cNvPr id="951" name="图片 60458" descr=""/>
          <p:cNvPicPr/>
          <p:nvPr/>
        </p:nvPicPr>
        <p:blipFill>
          <a:blip r:embed="rId30"/>
          <a:stretch/>
        </p:blipFill>
        <p:spPr>
          <a:xfrm>
            <a:off x="3213000" y="6213600"/>
            <a:ext cx="1622520" cy="409320"/>
          </a:xfrm>
          <a:prstGeom prst="rect">
            <a:avLst/>
          </a:prstGeom>
          <a:ln w="0">
            <a:noFill/>
          </a:ln>
        </p:spPr>
      </p:pic>
      <p:pic>
        <p:nvPicPr>
          <p:cNvPr id="952" name="图片 60459" descr=""/>
          <p:cNvPicPr/>
          <p:nvPr/>
        </p:nvPicPr>
        <p:blipFill>
          <a:blip r:embed="rId31"/>
          <a:stretch/>
        </p:blipFill>
        <p:spPr>
          <a:xfrm>
            <a:off x="5834160" y="4692600"/>
            <a:ext cx="1628640" cy="380880"/>
          </a:xfrm>
          <a:prstGeom prst="rect">
            <a:avLst/>
          </a:prstGeom>
          <a:ln w="0">
            <a:noFill/>
          </a:ln>
        </p:spPr>
      </p:pic>
      <p:pic>
        <p:nvPicPr>
          <p:cNvPr id="953" name="图片 60460" descr=""/>
          <p:cNvPicPr/>
          <p:nvPr/>
        </p:nvPicPr>
        <p:blipFill>
          <a:blip r:embed="rId32"/>
          <a:stretch/>
        </p:blipFill>
        <p:spPr>
          <a:xfrm>
            <a:off x="5815080" y="5710320"/>
            <a:ext cx="1622520" cy="409320"/>
          </a:xfrm>
          <a:prstGeom prst="rect">
            <a:avLst/>
          </a:prstGeom>
          <a:ln w="0">
            <a:noFill/>
          </a:ln>
        </p:spPr>
      </p:pic>
      <p:pic>
        <p:nvPicPr>
          <p:cNvPr id="954" name="图片 60461" descr=""/>
          <p:cNvPicPr/>
          <p:nvPr/>
        </p:nvPicPr>
        <p:blipFill>
          <a:blip r:embed="rId33"/>
          <a:stretch/>
        </p:blipFill>
        <p:spPr>
          <a:xfrm>
            <a:off x="5824440" y="5219640"/>
            <a:ext cx="1629000" cy="381240"/>
          </a:xfrm>
          <a:prstGeom prst="rect">
            <a:avLst/>
          </a:prstGeom>
          <a:ln w="0">
            <a:noFill/>
          </a:ln>
        </p:spPr>
      </p:pic>
      <p:pic>
        <p:nvPicPr>
          <p:cNvPr id="955" name="图片 60462" descr=""/>
          <p:cNvPicPr/>
          <p:nvPr/>
        </p:nvPicPr>
        <p:blipFill>
          <a:blip r:embed="rId34"/>
          <a:stretch/>
        </p:blipFill>
        <p:spPr>
          <a:xfrm>
            <a:off x="5815080" y="6222960"/>
            <a:ext cx="162252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1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6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1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6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9410" descr=""/>
          <p:cNvPicPr/>
          <p:nvPr/>
        </p:nvPicPr>
        <p:blipFill>
          <a:blip r:embed="rId1"/>
          <a:stretch/>
        </p:blipFill>
        <p:spPr>
          <a:xfrm>
            <a:off x="219240" y="795240"/>
            <a:ext cx="8705520" cy="52675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1393920" y="129708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3348000" y="128736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5354640" y="128736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7451640" y="130320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6"/>
          <a:stretch/>
        </p:blipFill>
        <p:spPr>
          <a:xfrm>
            <a:off x="1486080" y="170028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7"/>
          <a:stretch/>
        </p:blipFill>
        <p:spPr>
          <a:xfrm>
            <a:off x="3483000" y="170028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8"/>
          <a:stretch/>
        </p:blipFill>
        <p:spPr>
          <a:xfrm>
            <a:off x="5354640" y="170028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9"/>
          <a:stretch/>
        </p:blipFill>
        <p:spPr>
          <a:xfrm>
            <a:off x="7586640" y="170028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10"/>
          <a:stretch/>
        </p:blipFill>
        <p:spPr>
          <a:xfrm>
            <a:off x="1384200" y="20797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11"/>
          <a:stretch/>
        </p:blipFill>
        <p:spPr>
          <a:xfrm>
            <a:off x="3483000" y="20797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12"/>
          <a:stretch/>
        </p:blipFill>
        <p:spPr>
          <a:xfrm>
            <a:off x="5454720" y="208908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13"/>
          <a:stretch/>
        </p:blipFill>
        <p:spPr>
          <a:xfrm>
            <a:off x="7451640" y="208908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69" name="图片 59423" descr=""/>
          <p:cNvPicPr/>
          <p:nvPr/>
        </p:nvPicPr>
        <p:blipFill>
          <a:blip r:embed="rId14"/>
          <a:stretch/>
        </p:blipFill>
        <p:spPr>
          <a:xfrm>
            <a:off x="2133720" y="4527720"/>
            <a:ext cx="1622160" cy="409320"/>
          </a:xfrm>
          <a:prstGeom prst="rect">
            <a:avLst/>
          </a:prstGeom>
          <a:ln w="0">
            <a:noFill/>
          </a:ln>
        </p:spPr>
      </p:pic>
      <p:pic>
        <p:nvPicPr>
          <p:cNvPr id="970" name="图片 59424" descr=""/>
          <p:cNvPicPr/>
          <p:nvPr/>
        </p:nvPicPr>
        <p:blipFill>
          <a:blip r:embed="rId15"/>
          <a:stretch/>
        </p:blipFill>
        <p:spPr>
          <a:xfrm>
            <a:off x="2143080" y="4037040"/>
            <a:ext cx="1629000" cy="380880"/>
          </a:xfrm>
          <a:prstGeom prst="rect">
            <a:avLst/>
          </a:prstGeom>
          <a:ln w="0">
            <a:noFill/>
          </a:ln>
        </p:spPr>
      </p:pic>
      <p:pic>
        <p:nvPicPr>
          <p:cNvPr id="971" name="图片 59425" descr=""/>
          <p:cNvPicPr/>
          <p:nvPr/>
        </p:nvPicPr>
        <p:blipFill>
          <a:blip r:embed="rId16"/>
          <a:stretch/>
        </p:blipFill>
        <p:spPr>
          <a:xfrm>
            <a:off x="2133720" y="5056200"/>
            <a:ext cx="1622160" cy="40968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7"/>
          <a:stretch/>
        </p:blipFill>
        <p:spPr>
          <a:xfrm>
            <a:off x="2700360" y="5599080"/>
            <a:ext cx="1295280" cy="257040"/>
          </a:xfrm>
          <a:prstGeom prst="rect">
            <a:avLst/>
          </a:prstGeom>
          <a:ln w="0">
            <a:noFill/>
          </a:ln>
        </p:spPr>
      </p:pic>
      <p:pic>
        <p:nvPicPr>
          <p:cNvPr id="973" name="图片 59427" descr=""/>
          <p:cNvPicPr/>
          <p:nvPr/>
        </p:nvPicPr>
        <p:blipFill>
          <a:blip r:embed="rId18"/>
          <a:stretch/>
        </p:blipFill>
        <p:spPr>
          <a:xfrm>
            <a:off x="6232680" y="4527720"/>
            <a:ext cx="1622160" cy="409320"/>
          </a:xfrm>
          <a:prstGeom prst="rect">
            <a:avLst/>
          </a:prstGeom>
          <a:ln w="0">
            <a:noFill/>
          </a:ln>
        </p:spPr>
      </p:pic>
      <p:pic>
        <p:nvPicPr>
          <p:cNvPr id="974" name="图片 59428" descr=""/>
          <p:cNvPicPr/>
          <p:nvPr/>
        </p:nvPicPr>
        <p:blipFill>
          <a:blip r:embed="rId19"/>
          <a:stretch/>
        </p:blipFill>
        <p:spPr>
          <a:xfrm>
            <a:off x="6242040" y="4037040"/>
            <a:ext cx="1628640" cy="380880"/>
          </a:xfrm>
          <a:prstGeom prst="rect">
            <a:avLst/>
          </a:prstGeom>
          <a:ln w="0">
            <a:noFill/>
          </a:ln>
        </p:spPr>
      </p:pic>
      <p:pic>
        <p:nvPicPr>
          <p:cNvPr id="975" name="图片 59429" descr=""/>
          <p:cNvPicPr/>
          <p:nvPr/>
        </p:nvPicPr>
        <p:blipFill>
          <a:blip r:embed="rId20"/>
          <a:stretch/>
        </p:blipFill>
        <p:spPr>
          <a:xfrm>
            <a:off x="6232680" y="5056200"/>
            <a:ext cx="1622160" cy="40968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21"/>
          <a:stretch/>
        </p:blipFill>
        <p:spPr>
          <a:xfrm>
            <a:off x="6799320" y="5599080"/>
            <a:ext cx="129528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8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3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3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图片 58373" descr=""/>
          <p:cNvPicPr/>
          <p:nvPr/>
        </p:nvPicPr>
        <p:blipFill>
          <a:blip r:embed="rId1"/>
          <a:stretch/>
        </p:blipFill>
        <p:spPr>
          <a:xfrm>
            <a:off x="128520" y="623880"/>
            <a:ext cx="8886960" cy="566748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2"/>
          <a:stretch/>
        </p:blipFill>
        <p:spPr>
          <a:xfrm>
            <a:off x="755640" y="2157480"/>
            <a:ext cx="1655640" cy="2570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3"/>
          <a:stretch/>
        </p:blipFill>
        <p:spPr>
          <a:xfrm>
            <a:off x="4716360" y="2152800"/>
            <a:ext cx="1656000" cy="25704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4"/>
          <a:stretch/>
        </p:blipFill>
        <p:spPr>
          <a:xfrm>
            <a:off x="539640" y="3284640"/>
            <a:ext cx="1656000" cy="25704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5"/>
          <a:stretch/>
        </p:blipFill>
        <p:spPr>
          <a:xfrm>
            <a:off x="4643280" y="3274920"/>
            <a:ext cx="1656000" cy="257400"/>
          </a:xfrm>
          <a:prstGeom prst="rect">
            <a:avLst/>
          </a:prstGeom>
          <a:ln w="0">
            <a:noFill/>
          </a:ln>
        </p:spPr>
      </p:pic>
      <p:pic>
        <p:nvPicPr>
          <p:cNvPr id="982" name="图片 58378" descr=""/>
          <p:cNvPicPr/>
          <p:nvPr/>
        </p:nvPicPr>
        <p:blipFill>
          <a:blip r:embed="rId6"/>
          <a:stretch/>
        </p:blipFill>
        <p:spPr>
          <a:xfrm>
            <a:off x="874800" y="4714920"/>
            <a:ext cx="1655640" cy="37620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7"/>
          <a:stretch/>
        </p:blipFill>
        <p:spPr>
          <a:xfrm>
            <a:off x="2914560" y="477828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84" name="图片 58380" descr=""/>
          <p:cNvPicPr/>
          <p:nvPr/>
        </p:nvPicPr>
        <p:blipFill>
          <a:blip r:embed="rId8"/>
          <a:stretch/>
        </p:blipFill>
        <p:spPr>
          <a:xfrm>
            <a:off x="874800" y="5875200"/>
            <a:ext cx="1655640" cy="3762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9"/>
          <a:stretch/>
        </p:blipFill>
        <p:spPr>
          <a:xfrm>
            <a:off x="2914560" y="5938920"/>
            <a:ext cx="28908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4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8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图片 76801" descr=""/>
          <p:cNvPicPr/>
          <p:nvPr/>
        </p:nvPicPr>
        <p:blipFill>
          <a:blip r:embed="rId1"/>
          <a:stretch/>
        </p:blipFill>
        <p:spPr>
          <a:xfrm>
            <a:off x="147600" y="2009880"/>
            <a:ext cx="8848800" cy="283824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2"/>
          <a:stretch/>
        </p:blipFill>
        <p:spPr>
          <a:xfrm>
            <a:off x="826920" y="2482920"/>
            <a:ext cx="2521080" cy="25704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3"/>
          <a:stretch/>
        </p:blipFill>
        <p:spPr>
          <a:xfrm>
            <a:off x="826920" y="2852640"/>
            <a:ext cx="2521080" cy="2574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4"/>
          <a:stretch/>
        </p:blipFill>
        <p:spPr>
          <a:xfrm>
            <a:off x="611280" y="3943440"/>
            <a:ext cx="2520720" cy="25704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" descr=""/>
          <p:cNvPicPr/>
          <p:nvPr/>
        </p:nvPicPr>
        <p:blipFill>
          <a:blip r:embed="rId5"/>
          <a:stretch/>
        </p:blipFill>
        <p:spPr>
          <a:xfrm>
            <a:off x="684360" y="4321080"/>
            <a:ext cx="252072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5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0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5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0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图片 77825" descr=""/>
          <p:cNvPicPr/>
          <p:nvPr/>
        </p:nvPicPr>
        <p:blipFill>
          <a:blip r:embed="rId1"/>
          <a:stretch/>
        </p:blipFill>
        <p:spPr>
          <a:xfrm>
            <a:off x="204840" y="1252440"/>
            <a:ext cx="8734320" cy="435312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1" descr=""/>
          <p:cNvPicPr/>
          <p:nvPr/>
        </p:nvPicPr>
        <p:blipFill>
          <a:blip r:embed="rId2"/>
          <a:stretch/>
        </p:blipFill>
        <p:spPr>
          <a:xfrm>
            <a:off x="755640" y="1844640"/>
            <a:ext cx="3095640" cy="25704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1" descr=""/>
          <p:cNvPicPr/>
          <p:nvPr/>
        </p:nvPicPr>
        <p:blipFill>
          <a:blip r:embed="rId3"/>
          <a:stretch/>
        </p:blipFill>
        <p:spPr>
          <a:xfrm>
            <a:off x="755640" y="2205000"/>
            <a:ext cx="3095640" cy="25704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1" descr=""/>
          <p:cNvPicPr/>
          <p:nvPr/>
        </p:nvPicPr>
        <p:blipFill>
          <a:blip r:embed="rId4"/>
          <a:stretch/>
        </p:blipFill>
        <p:spPr>
          <a:xfrm>
            <a:off x="684360" y="3338640"/>
            <a:ext cx="3095640" cy="25704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1" descr=""/>
          <p:cNvPicPr/>
          <p:nvPr/>
        </p:nvPicPr>
        <p:blipFill>
          <a:blip r:embed="rId5"/>
          <a:stretch/>
        </p:blipFill>
        <p:spPr>
          <a:xfrm>
            <a:off x="684360" y="3706920"/>
            <a:ext cx="3095640" cy="25704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1" descr=""/>
          <p:cNvPicPr/>
          <p:nvPr/>
        </p:nvPicPr>
        <p:blipFill>
          <a:blip r:embed="rId6"/>
          <a:stretch/>
        </p:blipFill>
        <p:spPr>
          <a:xfrm>
            <a:off x="4726080" y="488808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1" descr=""/>
          <p:cNvPicPr/>
          <p:nvPr/>
        </p:nvPicPr>
        <p:blipFill>
          <a:blip r:embed="rId7"/>
          <a:stretch/>
        </p:blipFill>
        <p:spPr>
          <a:xfrm>
            <a:off x="4735440" y="52484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98" name="Picture 1" descr=""/>
          <p:cNvPicPr/>
          <p:nvPr/>
        </p:nvPicPr>
        <p:blipFill>
          <a:blip r:embed="rId8"/>
          <a:stretch/>
        </p:blipFill>
        <p:spPr>
          <a:xfrm>
            <a:off x="8469360" y="234936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99" name="Picture 1" descr=""/>
          <p:cNvPicPr/>
          <p:nvPr/>
        </p:nvPicPr>
        <p:blipFill>
          <a:blip r:embed="rId9"/>
          <a:stretch/>
        </p:blipFill>
        <p:spPr>
          <a:xfrm>
            <a:off x="8469360" y="276228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1" descr=""/>
          <p:cNvPicPr/>
          <p:nvPr/>
        </p:nvPicPr>
        <p:blipFill>
          <a:blip r:embed="rId10"/>
          <a:stretch/>
        </p:blipFill>
        <p:spPr>
          <a:xfrm>
            <a:off x="8469360" y="314172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1001" name="Picture 1" descr=""/>
          <p:cNvPicPr/>
          <p:nvPr/>
        </p:nvPicPr>
        <p:blipFill>
          <a:blip r:embed="rId11"/>
          <a:stretch/>
        </p:blipFill>
        <p:spPr>
          <a:xfrm>
            <a:off x="8388360" y="357336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1002" name="Picture 1" descr=""/>
          <p:cNvPicPr/>
          <p:nvPr/>
        </p:nvPicPr>
        <p:blipFill>
          <a:blip r:embed="rId12"/>
          <a:stretch/>
        </p:blipFill>
        <p:spPr>
          <a:xfrm>
            <a:off x="8379000" y="395280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1" descr=""/>
          <p:cNvPicPr/>
          <p:nvPr/>
        </p:nvPicPr>
        <p:blipFill>
          <a:blip r:embed="rId13"/>
          <a:stretch/>
        </p:blipFill>
        <p:spPr>
          <a:xfrm>
            <a:off x="8478720" y="437508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1" descr=""/>
          <p:cNvPicPr/>
          <p:nvPr/>
        </p:nvPicPr>
        <p:blipFill>
          <a:blip r:embed="rId14"/>
          <a:stretch/>
        </p:blipFill>
        <p:spPr>
          <a:xfrm>
            <a:off x="8379000" y="479736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1" descr=""/>
          <p:cNvPicPr/>
          <p:nvPr/>
        </p:nvPicPr>
        <p:blipFill>
          <a:blip r:embed="rId15"/>
          <a:stretch/>
        </p:blipFill>
        <p:spPr>
          <a:xfrm>
            <a:off x="8379000" y="5195880"/>
            <a:ext cx="28872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7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2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7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2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7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2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7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2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7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2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7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2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7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2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1:34:33Z</dcterms:modified>
  <cp:revision>2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